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1A9-30CE-4FE1-811F-BF18D576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8C2-2C9E-4CC7-8854-525157E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7F7-5747-4C5C-BFD6-7CBCFAD4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E19-2FB2-4DAD-9C11-47BA4B2B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A74-9C65-486C-AE47-2326278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AD1-9B33-416E-A3E0-FB1D43B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593-21C5-4F5C-AA3D-E98F025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17B-46E4-45F7-B600-039AF43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962-49B1-4638-9F67-10308C4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F49-E088-4346-A12B-283B02C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D73-28F0-4722-9969-AED5B25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2A6-C4AD-4338-973E-063B1AE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469-B6A2-4F7C-8973-693405CAF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name_extension" TargetMode="External"/><Relationship Id="rId2" Type="http://schemas.openxmlformats.org/officeDocument/2006/relationships/hyperlink" Target="http://en.wikipedia.org/wiki/Filename_extensi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are File Extensio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ilename extension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or file type) is a suffix appended to the name of a computer file that indicates the encoding convention (file format) of its contents. The file type follows the ‘dot’ (e.g.   .doc, .pdf, etc.) and is usually 3 or 4 characters in leng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impler explanation is that a filename extension indicates which software application created the file. Microsoft Operating Systems requires a file to have an extension. Other operating systems (e.g. Linux) do not require a file to have an exten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reate and save a file, the extension is usually appended to the file automatical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remove the filename extension from a file name, you may corrupt the file and render it unus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ollowing slides list some common filename extensions you may have encountered bef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re are some common filename extensions you may have encountered befo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1600200"/>
            <a:ext cx="754380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jpeg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ly used graphics 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peg will usually take on the icon assigned to that file extension by the software that creat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age.jpg"/>
          <p:cNvPicPr/>
          <p:nvPr/>
        </p:nvPicPr>
        <p:blipFill>
          <a:blip r:embed="rId1"/>
          <a:stretch/>
        </p:blipFill>
        <p:spPr>
          <a:xfrm>
            <a:off x="3429000" y="4419720"/>
            <a:ext cx="1646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mpeg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ving Picture Experts Group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 video file ty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movie.jpg"/>
          <p:cNvPicPr/>
          <p:nvPr/>
        </p:nvPicPr>
        <p:blipFill>
          <a:blip r:embed="rId1"/>
          <a:stretch/>
        </p:blipFill>
        <p:spPr>
          <a:xfrm>
            <a:off x="3809880" y="2590920"/>
            <a:ext cx="19717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wav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aveform audio forma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only used sound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sound.jpg"/>
          <p:cNvPicPr/>
          <p:nvPr/>
        </p:nvPicPr>
        <p:blipFill>
          <a:blip r:embed="rId1"/>
          <a:stretch/>
        </p:blipFill>
        <p:spPr>
          <a:xfrm>
            <a:off x="3787920" y="2490840"/>
            <a:ext cx="18176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mp3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PEG-1 Audio Layer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 sound fil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3716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ression protocols on this file type make it ideal for fast downloading and playback of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usic.jpg"/>
          <p:cNvPicPr/>
          <p:nvPr/>
        </p:nvPicPr>
        <p:blipFill>
          <a:blip r:embed="rId1"/>
          <a:stretch/>
        </p:blipFill>
        <p:spPr>
          <a:xfrm>
            <a:off x="3886200" y="3048120"/>
            <a:ext cx="15778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pp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 PowerPoint fil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ly Used MS Presentation Application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power.jpg"/>
          <p:cNvPicPr/>
          <p:nvPr/>
        </p:nvPicPr>
        <p:blipFill>
          <a:blip r:embed="rId1"/>
          <a:stretch/>
        </p:blipFill>
        <p:spPr>
          <a:xfrm>
            <a:off x="3664080" y="2127240"/>
            <a:ext cx="16700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xl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S Excel Spreadshee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finance.jpg"/>
          <p:cNvPicPr/>
          <p:nvPr/>
        </p:nvPicPr>
        <p:blipFill>
          <a:blip r:embed="rId1"/>
          <a:stretch/>
        </p:blipFill>
        <p:spPr>
          <a:xfrm>
            <a:off x="3505320" y="2135160"/>
            <a:ext cx="1834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doc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S Word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d Proces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Word 2007 files have a .docx extension) 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doc1.jpg"/>
          <p:cNvPicPr/>
          <p:nvPr/>
        </p:nvPicPr>
        <p:blipFill>
          <a:blip r:embed="rId1"/>
          <a:stretch/>
        </p:blipFill>
        <p:spPr>
          <a:xfrm>
            <a:off x="3429000" y="1976400"/>
            <a:ext cx="1697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4:54:47Z</dcterms:created>
  <dc:creator>Administrator</dc:creator>
  <dc:description/>
  <dc:language>en-US</dc:language>
  <cp:lastModifiedBy>Administrator</cp:lastModifiedBy>
  <dcterms:modified xsi:type="dcterms:W3CDTF">2009-03-10T16:44:18Z</dcterms:modified>
  <cp:revision>16</cp:revision>
  <dc:subject/>
  <dc:title>What are File Extension?</dc:title>
</cp:coreProperties>
</file>